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144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6EB-B238-4DA3-A192-80E983D3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D2C-E1FD-4DF5-9152-0D710A3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62A-6245-4B99-A6A5-FD45733F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9B9-B4F6-4AE2-8E4D-08BE2D0E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1F722-B551-4BD4-B734-E0E87CC7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94897-286C-42A3-BBEE-0B4E1B33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C5E13-DD73-4C32-B46D-9A4CC647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5E249-17AC-429F-AF54-A402D24D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69916-8474-47DB-9CDE-7223F3D2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0B304-25EF-4A56-8F41-2F615C9D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CC01-C653-4876-A36A-07F76893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3E3-59C5-4618-9C64-626F4AE5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3D40-7D3D-4E90-8A60-C62258E1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31F65-052E-4C05-A448-B9FBAAEA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55026-F49F-4323-8A53-7C4B0218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7B2D7-027F-48FF-BCA7-6664EC88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EB0E4-BF96-4B2B-BAD7-91B906AE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31B-35CC-48C6-9E3A-81D924D2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8CE-D712-4096-BD57-C629D546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9AE-26B9-4F8C-BDC3-2426DB08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A7F-C655-4128-84DC-DCB01021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4CF-E6FF-4E8E-897F-15E49C0C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A8D-6152-4BE0-8095-ED605C69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D2A-7786-417B-8D72-5090B25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37CD-5243-48D6-ABFD-716CDDCB8A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4F9B-DA50-42DA-AC5D-DC069F8C5F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089600">
            <a:off x="1067400" y="2057040"/>
            <a:ext cx="24789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Baseb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atter u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 of us cheer ‘cause the score is ti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ven to sev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xtra inn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ases load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d we hit a home ru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 gone, over the fen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sing is not for us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Alexander Belanger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1687400">
            <a:off x="2058480" y="6247440"/>
            <a:ext cx="2477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Raindro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n is h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n is like bri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like millions of letters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rashing down on yo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like pelts that come from outer spa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ke puddle laying s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n has many different typ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ut as long as it goes pit p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will still be tiny raindro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uring on yo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1111600">
            <a:off x="1829880" y="4266720"/>
            <a:ext cx="22395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Diamon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parkling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littering diamonds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se valuable pieces of jewel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y are very hard to break in hal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y look like tinted gla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y are precio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Alexander Belang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97180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etry Book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54097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lexander Bel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14200">
            <a:off x="3963240" y="304560"/>
            <a:ext cx="1971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The most embarrassing th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most embarrassing th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s when I had to do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mple, easy poe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en I wrote my poe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ust quick, not slow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 go outside for re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d I ripped my pants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ing down a sli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d when we went insi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y teacher asked 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 share my poe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front of the cla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 was to embarrass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 tell that I couldn’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use I had ripped my pa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 I went up in front of my cla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d did the dreading th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veryone was laugh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 they couldn’t restore or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 I got sent home early!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616040"/>
          <a:ext cx="15228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16040"/>
                    <a:ext cx="1522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42720" y="380880"/>
            <a:ext cx="6172200" cy="77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f us cheer ‘cause the score is t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 to s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 in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loa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we hit a home r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 gone, over the 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ing is not for u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exander Belange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6172200" cy="78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most embarrassing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mbarrassing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when I had to do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, easy po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 wrote my po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quick, not slo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o outside for re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ipped my pant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 down a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hen we went in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teacher asked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hare my po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ront of th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to embarra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ell that I couldn’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I had ripped my 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I went up in front of my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did the dreading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was la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mbarrassing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42720" y="304560"/>
            <a:ext cx="6172200" cy="78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am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arkl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ittering diamon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valuable pieces of jewel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very hard to break in ha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look like tinted g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exander Bel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42720" y="228240"/>
            <a:ext cx="6172200" cy="78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in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 is h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 is like bri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like millions of letter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shing down o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like pelts that come from outer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puddle laying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 has many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long as it goes pit 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still be tiny rain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ing o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42720" y="304560"/>
            <a:ext cx="6172200" cy="78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sper whis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es the wind, tickling the le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shhhh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y leaves fall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iioossh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tling the leaves more hard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orm i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at pat pat splat pat 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in is hitting the ground 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in is falling into pud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ly forming on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42720" y="380880"/>
            <a:ext cx="6172200" cy="77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gns of 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ay leaves twirl in the ai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ol, fresh air refreshes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ms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grass grows up through the brown gr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 warms 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the breeze cools 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s are blosso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is new and pure and fr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is g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s look is ch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spring surround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42720" y="380880"/>
            <a:ext cx="6172200" cy="77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m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a surfing vide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day summer seems closer and clo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a lot of good memories in s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ers in Central America bring back memories of the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ky reminds me of sunny day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after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nd brings back memories of the b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just the sport of surfing brings back the memory of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people having fu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memories of the best things in s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f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es bring back memories of walking in the wood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ing free out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so many memori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ood surfing video can b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8:32:58Z</dcterms:created>
  <dc:creator>abelanger</dc:creator>
  <dc:description/>
  <dc:language>en-US</dc:language>
  <cp:lastModifiedBy>abelanger</cp:lastModifiedBy>
  <dcterms:modified xsi:type="dcterms:W3CDTF">2008-05-27T15:52:46Z</dcterms:modified>
  <cp:revision>3</cp:revision>
  <dc:subject/>
  <dc:title>Poetry Book</dc:title>
</cp:coreProperties>
</file>